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4596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5648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">
            <a:hlinkClick r:id="" action="ppaction://hlinkshowjump?jump=nextslide"/>
          </p:cNvPr>
          <p:cNvSpPr/>
          <p:nvPr/>
        </p:nvSpPr>
        <p:spPr>
          <a:xfrm>
            <a:off x="688176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>
            <a:hlinkClick r:id="" action="ppaction://hlinkshowjump?jump=endshow"/>
          </p:cNvPr>
          <p:cNvSpPr/>
          <p:nvPr/>
        </p:nvSpPr>
        <p:spPr>
          <a:xfrm>
            <a:off x="8344080" y="6019920"/>
            <a:ext cx="533160" cy="8380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45">
                <a:moveTo>
                  <a:pt x="0" y="0"/>
                </a:moveTo>
                <a:lnTo>
                  <a:pt x="21600" y="0"/>
                </a:lnTo>
                <a:lnTo>
                  <a:pt x="21600" y="33945"/>
                </a:lnTo>
                <a:lnTo>
                  <a:pt x="0" y="33945"/>
                </a:lnTo>
                <a:close/>
              </a:path>
              <a:path fill="lightenLess" w="21600" h="339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45">
                <a:moveTo>
                  <a:pt x="21600" y="0"/>
                </a:moveTo>
                <a:lnTo>
                  <a:pt x="21600" y="33945"/>
                </a:lnTo>
                <a:lnTo>
                  <a:pt x="20200" y="32545"/>
                </a:lnTo>
                <a:lnTo>
                  <a:pt x="20200" y="1400"/>
                </a:lnTo>
                <a:close/>
              </a:path>
              <a:path fill="darkenLess" w="21600" h="33945">
                <a:moveTo>
                  <a:pt x="21600" y="33945"/>
                </a:moveTo>
                <a:lnTo>
                  <a:pt x="0" y="33945"/>
                </a:lnTo>
                <a:lnTo>
                  <a:pt x="1400" y="32545"/>
                </a:lnTo>
                <a:lnTo>
                  <a:pt x="20200" y="32545"/>
                </a:lnTo>
                <a:close/>
              </a:path>
              <a:path fill="lighten" w="21600" h="33945">
                <a:moveTo>
                  <a:pt x="0" y="33945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4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6172200" y="6032520"/>
            <a:ext cx="673200" cy="825480"/>
          </a:xfrm>
          <a:custGeom>
            <a:avLst/>
            <a:gdLst>
              <a:gd name="textAreaLeft" fmla="*/ 43560 w 673200"/>
              <a:gd name="textAreaRight" fmla="*/ 629640 w 673200"/>
              <a:gd name="textAreaTop" fmla="*/ 43560 h 825480"/>
              <a:gd name="textAreaBottom" fmla="*/ 781920 h 825480"/>
            </a:gdLst>
            <a:ahLst/>
            <a:rect l="textAreaLeft" t="textAreaTop" r="textAreaRight" b="textAreaBottom"/>
            <a:pathLst>
              <a:path w="21600" h="26483">
                <a:moveTo>
                  <a:pt x="0" y="0"/>
                </a:moveTo>
                <a:lnTo>
                  <a:pt x="21600" y="0"/>
                </a:lnTo>
                <a:lnTo>
                  <a:pt x="21600" y="26483"/>
                </a:lnTo>
                <a:lnTo>
                  <a:pt x="0" y="26483"/>
                </a:lnTo>
                <a:close/>
              </a:path>
              <a:path fill="lightenLess" w="21600" h="264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83">
                <a:moveTo>
                  <a:pt x="21600" y="0"/>
                </a:moveTo>
                <a:lnTo>
                  <a:pt x="21600" y="26483"/>
                </a:lnTo>
                <a:lnTo>
                  <a:pt x="20200" y="25083"/>
                </a:lnTo>
                <a:lnTo>
                  <a:pt x="20200" y="1400"/>
                </a:lnTo>
                <a:close/>
              </a:path>
              <a:path fill="darkenLess" w="21600" h="26483">
                <a:moveTo>
                  <a:pt x="21600" y="26483"/>
                </a:moveTo>
                <a:lnTo>
                  <a:pt x="0" y="26483"/>
                </a:lnTo>
                <a:lnTo>
                  <a:pt x="1400" y="25083"/>
                </a:lnTo>
                <a:lnTo>
                  <a:pt x="20200" y="25083"/>
                </a:lnTo>
                <a:close/>
              </a:path>
              <a:path fill="lighten" w="21600" h="26483">
                <a:moveTo>
                  <a:pt x="0" y="264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8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5029200" y="66294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7.xml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0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11.png"/><Relationship Id="rId4" Type="http://schemas.openxmlformats.org/officeDocument/2006/relationships/slide" Target="slide16.xml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4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4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" Target="slide7.xml"/><Relationship Id="rId7" Type="http://schemas.openxmlformats.org/officeDocument/2006/relationships/image" Target="../media/image13.pn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6.jpe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11.png"/><Relationship Id="rId4" Type="http://schemas.openxmlformats.org/officeDocument/2006/relationships/slide" Target="slide6.xml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4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4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" Target="slide20.xml"/><Relationship Id="rId4" Type="http://schemas.openxmlformats.org/officeDocument/2006/relationships/slide" Target="slide19.xml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400" y="345960"/>
            <a:ext cx="822636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haracter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839880" y="1754280"/>
            <a:ext cx="777060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Creating Charac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haracte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pee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3" action="ppaction://hlinksldjump"/>
              </a:rPr>
              <a:t>Appea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4" action="ppaction://hlinksldjump"/>
              </a:rPr>
              <a:t>Private Though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5" action="ppaction://hlinksldjump"/>
              </a:rPr>
              <a:t>How Other Characters Fe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6" action="ppaction://hlinksldjump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7" action="ppaction://hlinksldjump"/>
              </a:rPr>
              <a:t>Direct and Indirect Character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8" action="ppaction://hlinksldjump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">
            <a:hlinkClick r:id="" action="ppaction://hlinkshowjump?jump=endshow"/>
          </p:cNvPr>
          <p:cNvSpPr/>
          <p:nvPr/>
        </p:nvSpPr>
        <p:spPr>
          <a:xfrm>
            <a:off x="6058080" y="6045120"/>
            <a:ext cx="892080" cy="812880"/>
          </a:xfrm>
          <a:custGeom>
            <a:avLst/>
            <a:gdLst>
              <a:gd name="textAreaLeft" fmla="*/ 52560 w 892080"/>
              <a:gd name="textAreaRight" fmla="*/ 839520 w 892080"/>
              <a:gd name="textAreaTop" fmla="*/ 52560 h 812880"/>
              <a:gd name="textAreaBottom" fmla="*/ 760320 h 812880"/>
            </a:gdLst>
            <a:ahLst/>
            <a:rect l="textAreaLeft" t="textAreaTop" r="textAreaRight" b="textAreaBottom"/>
            <a:pathLst>
              <a:path w="23704" h="21600">
                <a:moveTo>
                  <a:pt x="0" y="0"/>
                </a:moveTo>
                <a:lnTo>
                  <a:pt x="23704" y="0"/>
                </a:lnTo>
                <a:lnTo>
                  <a:pt x="23704" y="21600"/>
                </a:lnTo>
                <a:lnTo>
                  <a:pt x="0" y="21600"/>
                </a:lnTo>
                <a:close/>
              </a:path>
              <a:path fill="lightenLess" w="23704" h="21600">
                <a:moveTo>
                  <a:pt x="0" y="0"/>
                </a:moveTo>
                <a:lnTo>
                  <a:pt x="23704" y="0"/>
                </a:lnTo>
                <a:lnTo>
                  <a:pt x="22304" y="1400"/>
                </a:lnTo>
                <a:lnTo>
                  <a:pt x="1400" y="1400"/>
                </a:lnTo>
                <a:close/>
              </a:path>
              <a:path fill="darken" w="23704" h="21600">
                <a:moveTo>
                  <a:pt x="23704" y="0"/>
                </a:moveTo>
                <a:lnTo>
                  <a:pt x="23704" y="21600"/>
                </a:lnTo>
                <a:lnTo>
                  <a:pt x="22304" y="20200"/>
                </a:lnTo>
                <a:lnTo>
                  <a:pt x="22304" y="1400"/>
                </a:lnTo>
                <a:close/>
              </a:path>
              <a:path fill="darkenLess" w="23704" h="21600">
                <a:moveTo>
                  <a:pt x="23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04" y="20200"/>
                </a:lnTo>
                <a:close/>
              </a:path>
              <a:path fill="lighten" w="23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>
            <a:hlinkClick r:id="" action="ppaction://hlinkshowjump?jump=endshow"/>
          </p:cNvPr>
          <p:cNvSpPr/>
          <p:nvPr/>
        </p:nvSpPr>
        <p:spPr>
          <a:xfrm>
            <a:off x="7542360" y="6031080"/>
            <a:ext cx="763560" cy="826920"/>
          </a:xfrm>
          <a:custGeom>
            <a:avLst/>
            <a:gdLst>
              <a:gd name="textAreaLeft" fmla="*/ 49320 w 763560"/>
              <a:gd name="textAreaRight" fmla="*/ 714240 w 763560"/>
              <a:gd name="textAreaTop" fmla="*/ 49320 h 826920"/>
              <a:gd name="textAreaBottom" fmla="*/ 777600 h 826920"/>
            </a:gdLst>
            <a:ahLst/>
            <a:rect l="textAreaLeft" t="textAreaTop" r="textAreaRight" b="textAreaBottom"/>
            <a:pathLst>
              <a:path w="21600" h="23392">
                <a:moveTo>
                  <a:pt x="0" y="0"/>
                </a:moveTo>
                <a:lnTo>
                  <a:pt x="21600" y="0"/>
                </a:lnTo>
                <a:lnTo>
                  <a:pt x="21600" y="23392"/>
                </a:lnTo>
                <a:lnTo>
                  <a:pt x="0" y="23392"/>
                </a:lnTo>
                <a:close/>
              </a:path>
              <a:path fill="lightenLess" w="21600" h="233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2">
                <a:moveTo>
                  <a:pt x="21600" y="0"/>
                </a:moveTo>
                <a:lnTo>
                  <a:pt x="21600" y="23392"/>
                </a:lnTo>
                <a:lnTo>
                  <a:pt x="20200" y="21992"/>
                </a:lnTo>
                <a:lnTo>
                  <a:pt x="20200" y="1400"/>
                </a:lnTo>
                <a:close/>
              </a:path>
              <a:path fill="darkenLess" w="21600" h="23392">
                <a:moveTo>
                  <a:pt x="21600" y="23392"/>
                </a:moveTo>
                <a:lnTo>
                  <a:pt x="0" y="23392"/>
                </a:lnTo>
                <a:lnTo>
                  <a:pt x="1400" y="21992"/>
                </a:lnTo>
                <a:lnTo>
                  <a:pt x="20200" y="21992"/>
                </a:lnTo>
                <a:close/>
              </a:path>
              <a:path fill="lighten" w="21600" h="23392">
                <a:moveTo>
                  <a:pt x="0" y="233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371600"/>
            <a:ext cx="22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Feature Men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rcRect l="11736" t="0" r="3497" b="0"/>
          <a:stretch/>
        </p:blipFill>
        <p:spPr>
          <a:xfrm>
            <a:off x="6454800" y="3648240"/>
            <a:ext cx="2155680" cy="174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riters can take us into the characters’ minds to reveal their thoughts and feeling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2780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s you read, note whether the characters’ thoughts and feelings match their speech and ac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560232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089760" y="194472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Private Thoughts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53" name="" descr="AA051641.JPG"/>
          <p:cNvPicPr/>
          <p:nvPr/>
        </p:nvPicPr>
        <p:blipFill>
          <a:blip r:embed="rId4"/>
          <a:srcRect l="0" t="0" r="0" b="16184"/>
          <a:stretch/>
        </p:blipFill>
        <p:spPr>
          <a:xfrm>
            <a:off x="534960" y="3652920"/>
            <a:ext cx="2143080" cy="1751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3276720" y="3657600"/>
            <a:ext cx="2543040" cy="17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atch how other characters in the story react to the character. No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dv344062.jpg"/>
          <p:cNvPicPr/>
          <p:nvPr/>
        </p:nvPicPr>
        <p:blipFill>
          <a:blip r:embed="rId2"/>
          <a:stretch/>
        </p:blipFill>
        <p:spPr>
          <a:xfrm>
            <a:off x="647640" y="3618000"/>
            <a:ext cx="2386080" cy="1538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dv344058b.jpg"/>
          <p:cNvPicPr/>
          <p:nvPr/>
        </p:nvPicPr>
        <p:blipFill>
          <a:blip r:embed="rId3"/>
          <a:stretch/>
        </p:blipFill>
        <p:spPr>
          <a:xfrm>
            <a:off x="3835440" y="3429000"/>
            <a:ext cx="1577880" cy="2438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MTE0044E.jpg"/>
          <p:cNvPicPr/>
          <p:nvPr/>
        </p:nvPicPr>
        <p:blipFill>
          <a:blip r:embed="rId4"/>
          <a:stretch/>
        </p:blipFill>
        <p:spPr>
          <a:xfrm>
            <a:off x="6154560" y="3629160"/>
            <a:ext cx="2455920" cy="1639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553080" y="560232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279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how the others feel about the charac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82564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the others say about the charac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3821040" y="194472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7358040" y="250344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Other Characters Feel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characters do and how they treat each other often reveal the most about the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227664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Observe characters’ actions to determ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832120"/>
            <a:ext cx="47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their personality is lik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743280"/>
            <a:ext cx="47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motivates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4290840"/>
            <a:ext cx="47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how they deal with conflic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6553080" y="560232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081840" y="193356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093080" y="24922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1778040" y="341316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4481640" y="395748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Actions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5048280" y="2971800"/>
            <a:ext cx="3486240" cy="254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520" y="137016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Direct Characterization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—Writers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ell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us directly what characters are like or what their motives ar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647640" y="2682720"/>
            <a:ext cx="7658280" cy="1252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h, but he was a tightfisted hand at the grindstone, Scrooge! a squeezing, wrenching, grasping, scraping, clutching, covetous old sinner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</a:t>
            </a:r>
            <a:r>
              <a:rPr b="0" i="1" lang="en-US" sz="1600" spc="-1" strike="noStrike">
                <a:solidFill>
                  <a:srgbClr val="003300"/>
                </a:solidFill>
                <a:latin typeface="Verdana"/>
              </a:rPr>
              <a:t>A Christmas Carol 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by Charles Dicke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417528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Indirect Characterization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—Writers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show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us characters (through speech, appearance, private thoughts, other characters’ reactions, and actions) but allow us to decide what characters are lik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684520" y="23130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8472600" y="378468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Direct and Indirect Characterization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3520" y="1170000"/>
            <a:ext cx="2286000" cy="763560"/>
          </a:xfrm>
          <a:prstGeom prst="flowChartAlternateProcess">
            <a:avLst/>
          </a:prstGeom>
          <a:solidFill>
            <a:srgbClr val="33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11700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1600200"/>
            <a:ext cx="5524560" cy="3513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My sister, Mrs. Joe, with black hair and eyes, had such a prevailing redness of skin that I sometimes used to wonder whether it was possible she washed herself with a nutmeg-grater instead of soap. She was tall and bony, and almost always wore a coarse apron, fastened over her figure behind with two loops, and having a square impregnable bib in front, that was stuck full of pins and needl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</a:t>
            </a:r>
            <a:r>
              <a:rPr b="0" i="1" lang="en-US" sz="1600" spc="-1" strike="noStrike">
                <a:solidFill>
                  <a:srgbClr val="003300"/>
                </a:solidFill>
                <a:latin typeface="Verdana"/>
              </a:rPr>
              <a:t>Great Expectations 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by Charles Dicke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6219720" y="1504800"/>
            <a:ext cx="261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s this an example of direct or indirect characteriza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6219720" y="3514680"/>
            <a:ext cx="2371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What kind of person do you think this character i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42360" y="2868480"/>
            <a:ext cx="1030320" cy="420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542360" y="4878360"/>
            <a:ext cx="1030320" cy="420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6108840" y="529596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Direct and Indirect Characterization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553080" y="560232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688176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251400" y="3051000"/>
            <a:ext cx="2311560" cy="16185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direct. The writer is describing the character’s appeara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13800" y="510840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Direct and Indirect Characterization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1170000"/>
            <a:ext cx="2286000" cy="763560"/>
          </a:xfrm>
          <a:prstGeom prst="flowChartAlternateProcess">
            <a:avLst/>
          </a:prstGeom>
          <a:solidFill>
            <a:srgbClr val="33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11700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5754600" y="6035760"/>
            <a:ext cx="2551320" cy="822240"/>
          </a:xfrm>
          <a:custGeom>
            <a:avLst/>
            <a:gdLst>
              <a:gd name="textAreaLeft" fmla="*/ 53280 w 2551320"/>
              <a:gd name="textAreaRight" fmla="*/ 2498040 w 2551320"/>
              <a:gd name="textAreaTop" fmla="*/ 53280 h 822240"/>
              <a:gd name="textAreaBottom" fmla="*/ 768960 h 822240"/>
            </a:gdLst>
            <a:ahLst/>
            <a:rect l="textAreaLeft" t="textAreaTop" r="textAreaRight" b="textAreaBottom"/>
            <a:pathLst>
              <a:path w="67003" h="21600">
                <a:moveTo>
                  <a:pt x="0" y="0"/>
                </a:moveTo>
                <a:lnTo>
                  <a:pt x="67003" y="0"/>
                </a:lnTo>
                <a:lnTo>
                  <a:pt x="67003" y="21600"/>
                </a:lnTo>
                <a:lnTo>
                  <a:pt x="0" y="21600"/>
                </a:lnTo>
                <a:close/>
              </a:path>
              <a:path fill="lightenLess" w="67003" h="21600">
                <a:moveTo>
                  <a:pt x="0" y="0"/>
                </a:moveTo>
                <a:lnTo>
                  <a:pt x="67003" y="0"/>
                </a:lnTo>
                <a:lnTo>
                  <a:pt x="65603" y="1400"/>
                </a:lnTo>
                <a:lnTo>
                  <a:pt x="1400" y="1400"/>
                </a:lnTo>
                <a:close/>
              </a:path>
              <a:path fill="darken" w="67003" h="21600">
                <a:moveTo>
                  <a:pt x="67003" y="0"/>
                </a:moveTo>
                <a:lnTo>
                  <a:pt x="67003" y="21600"/>
                </a:lnTo>
                <a:lnTo>
                  <a:pt x="65603" y="20200"/>
                </a:lnTo>
                <a:lnTo>
                  <a:pt x="65603" y="1400"/>
                </a:lnTo>
                <a:close/>
              </a:path>
              <a:path fill="darkenLess" w="67003" h="21600">
                <a:moveTo>
                  <a:pt x="67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603" y="20200"/>
                </a:lnTo>
                <a:close/>
              </a:path>
              <a:path fill="lighten" w="67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6219720" y="1504800"/>
            <a:ext cx="261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s this an example of direct or indirect characteriza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1600200"/>
            <a:ext cx="5524560" cy="3513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My sister, Mrs. Joe, with black hair and eyes, had such a prevailing redness of skin that I sometimes used to wonder whether it was possible she washed herself with a nutmeg-grater instead of soap. She was tall and bony, and almost always wore a coarse apron, fastened over her figure behind with two loops, and having a square impregnable bib in front, that was stuck full of pins and needl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</a:t>
            </a:r>
            <a:r>
              <a:rPr b="0" i="1" lang="en-US" sz="1600" spc="-1" strike="noStrike">
                <a:solidFill>
                  <a:srgbClr val="003300"/>
                </a:solidFill>
                <a:latin typeface="Verdana"/>
              </a:rPr>
              <a:t>Great Expectations 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by Charles Dicke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261120" y="2894040"/>
            <a:ext cx="2349360" cy="7038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 think she’s strict and unfriend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6215040" y="1504800"/>
            <a:ext cx="235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What kind of person do you think this character i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13800" y="401004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Direct and Indirect Characterization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70000"/>
            <a:ext cx="2286000" cy="763560"/>
          </a:xfrm>
          <a:prstGeom prst="flowChartAlternateProcess">
            <a:avLst/>
          </a:prstGeom>
          <a:solidFill>
            <a:srgbClr val="33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1700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5754600" y="6035760"/>
            <a:ext cx="2551320" cy="822240"/>
          </a:xfrm>
          <a:custGeom>
            <a:avLst/>
            <a:gdLst>
              <a:gd name="textAreaLeft" fmla="*/ 53280 w 2551320"/>
              <a:gd name="textAreaRight" fmla="*/ 2498040 w 2551320"/>
              <a:gd name="textAreaTop" fmla="*/ 53280 h 822240"/>
              <a:gd name="textAreaBottom" fmla="*/ 768960 h 822240"/>
            </a:gdLst>
            <a:ahLst/>
            <a:rect l="textAreaLeft" t="textAreaTop" r="textAreaRight" b="textAreaBottom"/>
            <a:pathLst>
              <a:path w="67003" h="21600">
                <a:moveTo>
                  <a:pt x="0" y="0"/>
                </a:moveTo>
                <a:lnTo>
                  <a:pt x="67003" y="0"/>
                </a:lnTo>
                <a:lnTo>
                  <a:pt x="67003" y="21600"/>
                </a:lnTo>
                <a:lnTo>
                  <a:pt x="0" y="21600"/>
                </a:lnTo>
                <a:close/>
              </a:path>
              <a:path fill="lightenLess" w="67003" h="21600">
                <a:moveTo>
                  <a:pt x="0" y="0"/>
                </a:moveTo>
                <a:lnTo>
                  <a:pt x="67003" y="0"/>
                </a:lnTo>
                <a:lnTo>
                  <a:pt x="65603" y="1400"/>
                </a:lnTo>
                <a:lnTo>
                  <a:pt x="1400" y="1400"/>
                </a:lnTo>
                <a:close/>
              </a:path>
              <a:path fill="darken" w="67003" h="21600">
                <a:moveTo>
                  <a:pt x="67003" y="0"/>
                </a:moveTo>
                <a:lnTo>
                  <a:pt x="67003" y="21600"/>
                </a:lnTo>
                <a:lnTo>
                  <a:pt x="65603" y="20200"/>
                </a:lnTo>
                <a:lnTo>
                  <a:pt x="65603" y="1400"/>
                </a:lnTo>
                <a:close/>
              </a:path>
              <a:path fill="darkenLess" w="67003" h="21600">
                <a:moveTo>
                  <a:pt x="67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603" y="20200"/>
                </a:lnTo>
                <a:close/>
              </a:path>
              <a:path fill="lighten" w="67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1600200"/>
            <a:ext cx="5524560" cy="3513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My sister, Mrs. Joe, with black hair and eyes, had such a prevailing redness of skin that I sometimes used to wonder whether it was possible she washed herself with a nutmeg-grater instead of soap. She was tall and bony, and almost always wore a coarse apron, fastened over her figure behind with two loops, and having a square impregnable bib in front, that was stuck full of pins and needl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</a:t>
            </a:r>
            <a:r>
              <a:rPr b="0" i="1" lang="en-US" sz="1600" spc="-1" strike="noStrike">
                <a:solidFill>
                  <a:srgbClr val="003300"/>
                </a:solidFill>
                <a:latin typeface="Verdana"/>
              </a:rPr>
              <a:t>Great Expectations 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by Charles Dicke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3520" y="1370160"/>
            <a:ext cx="80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                   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Who is the most unforgettable character you’ve ever met in a story? Write a few sentences about why you find the character so memorable. Before you begin, jot down your ideas on a chart like this on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09480" y="142560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Practic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28480" y="2908440"/>
          <a:ext cx="8082000" cy="2655720"/>
        </p:xfrm>
        <a:graphic>
          <a:graphicData uri="http://schemas.openxmlformats.org/drawingml/2006/table">
            <a:tbl>
              <a:tblPr/>
              <a:tblGrid>
                <a:gridCol w="4042080"/>
                <a:gridCol w="4039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Most memorable 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Most outstanding 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Character’s appear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Important stat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Important though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Important ac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Reactions of other charac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6553080" y="560232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6172200" y="6032520"/>
            <a:ext cx="673200" cy="825480"/>
          </a:xfrm>
          <a:custGeom>
            <a:avLst/>
            <a:gdLst>
              <a:gd name="textAreaLeft" fmla="*/ 43560 w 673200"/>
              <a:gd name="textAreaRight" fmla="*/ 629640 w 673200"/>
              <a:gd name="textAreaTop" fmla="*/ 43560 h 825480"/>
              <a:gd name="textAreaBottom" fmla="*/ 781920 h 825480"/>
            </a:gdLst>
            <a:ahLst/>
            <a:rect l="textAreaLeft" t="textAreaTop" r="textAreaRight" b="textAreaBottom"/>
            <a:pathLst>
              <a:path w="21600" h="26483">
                <a:moveTo>
                  <a:pt x="0" y="0"/>
                </a:moveTo>
                <a:lnTo>
                  <a:pt x="21600" y="0"/>
                </a:lnTo>
                <a:lnTo>
                  <a:pt x="21600" y="26483"/>
                </a:lnTo>
                <a:lnTo>
                  <a:pt x="0" y="26483"/>
                </a:lnTo>
                <a:close/>
              </a:path>
              <a:path fill="lightenLess" w="21600" h="264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83">
                <a:moveTo>
                  <a:pt x="21600" y="0"/>
                </a:moveTo>
                <a:lnTo>
                  <a:pt x="21600" y="26483"/>
                </a:lnTo>
                <a:lnTo>
                  <a:pt x="20200" y="25083"/>
                </a:lnTo>
                <a:lnTo>
                  <a:pt x="20200" y="1400"/>
                </a:lnTo>
                <a:close/>
              </a:path>
              <a:path fill="darkenLess" w="21600" h="26483">
                <a:moveTo>
                  <a:pt x="21600" y="26483"/>
                </a:moveTo>
                <a:lnTo>
                  <a:pt x="0" y="26483"/>
                </a:lnTo>
                <a:lnTo>
                  <a:pt x="1400" y="25083"/>
                </a:lnTo>
                <a:lnTo>
                  <a:pt x="20200" y="25083"/>
                </a:lnTo>
                <a:close/>
              </a:path>
              <a:path fill="lighten" w="21600" h="26483">
                <a:moveTo>
                  <a:pt x="0" y="264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8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6348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The End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5754600" y="6035760"/>
            <a:ext cx="1808280" cy="822240"/>
          </a:xfrm>
          <a:custGeom>
            <a:avLst/>
            <a:gdLst>
              <a:gd name="textAreaLeft" fmla="*/ 53280 w 1808280"/>
              <a:gd name="textAreaRight" fmla="*/ 1755000 w 1808280"/>
              <a:gd name="textAreaTop" fmla="*/ 53280 h 822240"/>
              <a:gd name="textAreaBottom" fmla="*/ 768960 h 822240"/>
            </a:gdLst>
            <a:ahLst/>
            <a:rect l="textAreaLeft" t="textAreaTop" r="textAreaRight" b="textAreaBottom"/>
            <a:pathLst>
              <a:path w="47492" h="21600">
                <a:moveTo>
                  <a:pt x="0" y="0"/>
                </a:moveTo>
                <a:lnTo>
                  <a:pt x="47492" y="0"/>
                </a:lnTo>
                <a:lnTo>
                  <a:pt x="47492" y="21600"/>
                </a:lnTo>
                <a:lnTo>
                  <a:pt x="0" y="21600"/>
                </a:lnTo>
                <a:close/>
              </a:path>
              <a:path fill="lightenLess" w="47492" h="21600">
                <a:moveTo>
                  <a:pt x="0" y="0"/>
                </a:moveTo>
                <a:lnTo>
                  <a:pt x="47492" y="0"/>
                </a:lnTo>
                <a:lnTo>
                  <a:pt x="46092" y="1400"/>
                </a:lnTo>
                <a:lnTo>
                  <a:pt x="1400" y="1400"/>
                </a:lnTo>
                <a:close/>
              </a:path>
              <a:path fill="darken" w="47492" h="21600">
                <a:moveTo>
                  <a:pt x="47492" y="0"/>
                </a:moveTo>
                <a:lnTo>
                  <a:pt x="47492" y="21600"/>
                </a:lnTo>
                <a:lnTo>
                  <a:pt x="46092" y="20200"/>
                </a:lnTo>
                <a:lnTo>
                  <a:pt x="46092" y="1400"/>
                </a:lnTo>
                <a:close/>
              </a:path>
              <a:path fill="darkenLess" w="47492" h="21600">
                <a:moveTo>
                  <a:pt x="47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92" y="20200"/>
                </a:lnTo>
                <a:close/>
              </a:path>
              <a:path fill="lighten" w="47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Dramatic monologu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—a type of poem in which a speaker addresses one or more silent listen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3898800" y="2840040"/>
            <a:ext cx="48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often dicusses a specific problem or sit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3884760" y="375444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may tell us about his or her life and val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3884760" y="4675320"/>
            <a:ext cx="44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may reveal his or her relationship with the listener(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520560" y="2278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narrator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of a dramatic monologu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8043840" y="19558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6837480" y="24922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7731000" y="3403440"/>
            <a:ext cx="120600" cy="88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7426440" y="4317840"/>
            <a:ext cx="120600" cy="88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813800" y="545940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Speech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5754600" y="6035760"/>
            <a:ext cx="2551320" cy="822240"/>
          </a:xfrm>
          <a:custGeom>
            <a:avLst/>
            <a:gdLst>
              <a:gd name="textAreaLeft" fmla="*/ 53280 w 2551320"/>
              <a:gd name="textAreaRight" fmla="*/ 2498040 w 2551320"/>
              <a:gd name="textAreaTop" fmla="*/ 53280 h 822240"/>
              <a:gd name="textAreaBottom" fmla="*/ 768960 h 822240"/>
            </a:gdLst>
            <a:ahLst/>
            <a:rect l="textAreaLeft" t="textAreaTop" r="textAreaRight" b="textAreaBottom"/>
            <a:pathLst>
              <a:path w="67003" h="21600">
                <a:moveTo>
                  <a:pt x="0" y="0"/>
                </a:moveTo>
                <a:lnTo>
                  <a:pt x="67003" y="0"/>
                </a:lnTo>
                <a:lnTo>
                  <a:pt x="67003" y="21600"/>
                </a:lnTo>
                <a:lnTo>
                  <a:pt x="0" y="21600"/>
                </a:lnTo>
                <a:close/>
              </a:path>
              <a:path fill="lightenLess" w="67003" h="21600">
                <a:moveTo>
                  <a:pt x="0" y="0"/>
                </a:moveTo>
                <a:lnTo>
                  <a:pt x="67003" y="0"/>
                </a:lnTo>
                <a:lnTo>
                  <a:pt x="65603" y="1400"/>
                </a:lnTo>
                <a:lnTo>
                  <a:pt x="1400" y="1400"/>
                </a:lnTo>
                <a:close/>
              </a:path>
              <a:path fill="darken" w="67003" h="21600">
                <a:moveTo>
                  <a:pt x="67003" y="0"/>
                </a:moveTo>
                <a:lnTo>
                  <a:pt x="67003" y="21600"/>
                </a:lnTo>
                <a:lnTo>
                  <a:pt x="65603" y="20200"/>
                </a:lnTo>
                <a:lnTo>
                  <a:pt x="65603" y="1400"/>
                </a:lnTo>
                <a:close/>
              </a:path>
              <a:path fill="darkenLess" w="67003" h="21600">
                <a:moveTo>
                  <a:pt x="67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603" y="20200"/>
                </a:lnTo>
                <a:close/>
              </a:path>
              <a:path fill="lighten" w="67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8"/>
          <a:stretch/>
        </p:blipFill>
        <p:spPr>
          <a:xfrm>
            <a:off x="609480" y="2819520"/>
            <a:ext cx="3276720" cy="2390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reating characters—telling what human beings are like—is the whole point of writing stor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560232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reating Characters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8480" y="2860560"/>
            <a:ext cx="3486240" cy="2543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127480" y="2860560"/>
            <a:ext cx="3486240" cy="254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OCH0100D.JPG"/>
          <p:cNvPicPr/>
          <p:nvPr/>
        </p:nvPicPr>
        <p:blipFill>
          <a:blip r:embed="rId2"/>
          <a:stretch/>
        </p:blipFill>
        <p:spPr>
          <a:xfrm>
            <a:off x="6518160" y="2509920"/>
            <a:ext cx="2092320" cy="27860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oliloquy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—a long speech in which a character who is onstage alone expresses his or her thoughts alou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507960" y="3197160"/>
            <a:ext cx="476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discuss a specific problem or sit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522360" y="4111560"/>
            <a:ext cx="475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eveal his or her deepest private thoughts to the aud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523800" y="2655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character m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813800" y="5459400"/>
            <a:ext cx="796680" cy="420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3206880" y="23209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3660840" y="28591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>
            <a:off x="3000240" y="377352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Speech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>
            <a:off x="5754600" y="6035760"/>
            <a:ext cx="2551320" cy="822240"/>
          </a:xfrm>
          <a:custGeom>
            <a:avLst/>
            <a:gdLst>
              <a:gd name="textAreaLeft" fmla="*/ 53280 w 2551320"/>
              <a:gd name="textAreaRight" fmla="*/ 2498040 w 2551320"/>
              <a:gd name="textAreaTop" fmla="*/ 53280 h 822240"/>
              <a:gd name="textAreaBottom" fmla="*/ 768960 h 822240"/>
            </a:gdLst>
            <a:ahLst/>
            <a:rect l="textAreaLeft" t="textAreaTop" r="textAreaRight" b="textAreaBottom"/>
            <a:pathLst>
              <a:path w="67003" h="21600">
                <a:moveTo>
                  <a:pt x="0" y="0"/>
                </a:moveTo>
                <a:lnTo>
                  <a:pt x="67003" y="0"/>
                </a:lnTo>
                <a:lnTo>
                  <a:pt x="67003" y="21600"/>
                </a:lnTo>
                <a:lnTo>
                  <a:pt x="0" y="21600"/>
                </a:lnTo>
                <a:close/>
              </a:path>
              <a:path fill="lightenLess" w="67003" h="21600">
                <a:moveTo>
                  <a:pt x="0" y="0"/>
                </a:moveTo>
                <a:lnTo>
                  <a:pt x="67003" y="0"/>
                </a:lnTo>
                <a:lnTo>
                  <a:pt x="65603" y="1400"/>
                </a:lnTo>
                <a:lnTo>
                  <a:pt x="1400" y="1400"/>
                </a:lnTo>
                <a:close/>
              </a:path>
              <a:path fill="darken" w="67003" h="21600">
                <a:moveTo>
                  <a:pt x="67003" y="0"/>
                </a:moveTo>
                <a:lnTo>
                  <a:pt x="67003" y="21600"/>
                </a:lnTo>
                <a:lnTo>
                  <a:pt x="65603" y="20200"/>
                </a:lnTo>
                <a:lnTo>
                  <a:pt x="65603" y="1400"/>
                </a:lnTo>
                <a:close/>
              </a:path>
              <a:path fill="darkenLess" w="67003" h="21600">
                <a:moveTo>
                  <a:pt x="67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603" y="20200"/>
                </a:lnTo>
                <a:close/>
              </a:path>
              <a:path fill="lighten" w="67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riters build characters by revealing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20560" y="2189160"/>
            <a:ext cx="2054520" cy="1530720"/>
            <a:chOff x="520560" y="2189160"/>
            <a:chExt cx="2054520" cy="1530720"/>
          </a:xfrm>
        </p:grpSpPr>
        <p:pic>
          <p:nvPicPr>
            <p:cNvPr id="55" name="" descr="41301.JPG"/>
            <p:cNvPicPr/>
            <p:nvPr/>
          </p:nvPicPr>
          <p:blipFill>
            <a:blip r:embed="rId2"/>
            <a:srcRect l="14436" t="0" r="0" b="0"/>
            <a:stretch/>
          </p:blipFill>
          <p:spPr>
            <a:xfrm>
              <a:off x="520560" y="2189160"/>
              <a:ext cx="185292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355760" y="3321000"/>
              <a:ext cx="1219320" cy="398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Verdana"/>
                </a:rPr>
                <a:t>speech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086280" y="2189160"/>
            <a:ext cx="2361960" cy="1516680"/>
            <a:chOff x="3086280" y="2189160"/>
            <a:chExt cx="2361960" cy="1516680"/>
          </a:xfrm>
        </p:grpSpPr>
        <p:pic>
          <p:nvPicPr>
            <p:cNvPr id="58" name="" descr="APE0046E.JPG"/>
            <p:cNvPicPr/>
            <p:nvPr/>
          </p:nvPicPr>
          <p:blipFill>
            <a:blip r:embed="rId3"/>
            <a:stretch/>
          </p:blipFill>
          <p:spPr>
            <a:xfrm>
              <a:off x="3086280" y="2189160"/>
              <a:ext cx="213840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543480" y="3306960"/>
              <a:ext cx="1904760" cy="398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Verdana"/>
                </a:rPr>
                <a:t>appearanc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943600" y="2189160"/>
            <a:ext cx="2590560" cy="1516680"/>
            <a:chOff x="5943600" y="2189160"/>
            <a:chExt cx="2590560" cy="1516680"/>
          </a:xfrm>
        </p:grpSpPr>
        <p:pic>
          <p:nvPicPr>
            <p:cNvPr id="61" name="" descr="75005.JPG"/>
            <p:cNvPicPr/>
            <p:nvPr/>
          </p:nvPicPr>
          <p:blipFill>
            <a:blip r:embed="rId4"/>
            <a:srcRect l="0" t="0" r="1123" b="43340"/>
            <a:stretch/>
          </p:blipFill>
          <p:spPr>
            <a:xfrm>
              <a:off x="6399000" y="2189160"/>
              <a:ext cx="182088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43600" y="3306960"/>
              <a:ext cx="2590560" cy="398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Verdana"/>
                </a:rPr>
                <a:t>private thought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460520" y="4017960"/>
            <a:ext cx="2666880" cy="1602000"/>
            <a:chOff x="1460520" y="4017960"/>
            <a:chExt cx="2666880" cy="1602000"/>
          </a:xfrm>
        </p:grpSpPr>
        <p:pic>
          <p:nvPicPr>
            <p:cNvPr id="64" name="" descr="FRI0100E.jpg"/>
            <p:cNvPicPr/>
            <p:nvPr/>
          </p:nvPicPr>
          <p:blipFill>
            <a:blip r:embed="rId5"/>
            <a:srcRect l="0" t="8438" r="32304" b="20740"/>
            <a:stretch/>
          </p:blipFill>
          <p:spPr>
            <a:xfrm>
              <a:off x="1917720" y="4017960"/>
              <a:ext cx="1828800" cy="12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460520" y="5221080"/>
              <a:ext cx="2666880" cy="398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Verdana"/>
                </a:rPr>
                <a:t>others’ reaction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346720" y="4035600"/>
            <a:ext cx="1874880" cy="1584360"/>
            <a:chOff x="5346720" y="4035600"/>
            <a:chExt cx="1874880" cy="1584360"/>
          </a:xfrm>
        </p:grpSpPr>
        <p:pic>
          <p:nvPicPr>
            <p:cNvPr id="67" name="" descr="dv431037.JPG"/>
            <p:cNvPicPr/>
            <p:nvPr/>
          </p:nvPicPr>
          <p:blipFill>
            <a:blip r:embed="rId6"/>
            <a:srcRect l="0" t="6604" r="0" b="28798"/>
            <a:stretch/>
          </p:blipFill>
          <p:spPr>
            <a:xfrm>
              <a:off x="5346720" y="4035600"/>
              <a:ext cx="1461960" cy="14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02280" y="5221080"/>
              <a:ext cx="1219320" cy="398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Verdana"/>
                </a:rPr>
                <a:t>action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2617920" y="35290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5500800" y="35290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8572680" y="35244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4192560" y="54468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1"/>
          <a:stretch/>
        </p:blipFill>
        <p:spPr>
          <a:xfrm>
            <a:off x="6440400" y="160668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haracter Developmen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248520" y="1506600"/>
            <a:ext cx="235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Which methods of character development are being us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6234120" y="3594240"/>
            <a:ext cx="2367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What do you think of the man based on this excerpt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70800" y="2820960"/>
            <a:ext cx="1030320" cy="420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570800" y="4919760"/>
            <a:ext cx="1030320" cy="420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6108840" y="570240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haracter Developmen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170000"/>
            <a:ext cx="2286000" cy="763560"/>
          </a:xfrm>
          <a:prstGeom prst="flowChartAlternateProcess">
            <a:avLst/>
          </a:prstGeom>
          <a:solidFill>
            <a:srgbClr val="33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1700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600200"/>
            <a:ext cx="5524560" cy="3920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Keep still, you little devil, or I’ll cut your throat!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 fearful man, all in coarse grey, with a great iron on his leg. A man with no hat, and with broken shoes, and with an old rag tied round his head. A man who had been soaked in water, and smothered in mud, and lamed by stones, and cut by flints . . . ; who limped, and shivered, and glared and growled; and whose teeth chattered in his head as he seized me by the ch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</a:t>
            </a:r>
            <a:r>
              <a:rPr b="0" i="1" lang="en-US" sz="1600" spc="-1" strike="noStrike">
                <a:solidFill>
                  <a:srgbClr val="003300"/>
                </a:solidFill>
                <a:latin typeface="Verdana"/>
              </a:rPr>
              <a:t>Great Expectations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 by Charles Dicke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560232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688176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23800" y="1596960"/>
            <a:ext cx="5534280" cy="424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170000"/>
            <a:ext cx="2286000" cy="763560"/>
          </a:xfrm>
          <a:prstGeom prst="flowChartAlternateProcess">
            <a:avLst/>
          </a:prstGeom>
          <a:solidFill>
            <a:srgbClr val="33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6261120" y="3036960"/>
            <a:ext cx="2044800" cy="3988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pee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6261120" y="4408560"/>
            <a:ext cx="204480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6261120" y="3722760"/>
            <a:ext cx="2044800" cy="3988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5640" y="5197320"/>
            <a:ext cx="797040" cy="4208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haracter Developmen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1700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28480" y="2301840"/>
            <a:ext cx="5529600" cy="2239920"/>
            <a:chOff x="528480" y="2301840"/>
            <a:chExt cx="5529600" cy="2239920"/>
          </a:xfrm>
        </p:grpSpPr>
        <p:sp>
          <p:nvSpPr>
            <p:cNvPr id="95" name=""/>
            <p:cNvSpPr/>
            <p:nvPr/>
          </p:nvSpPr>
          <p:spPr>
            <a:xfrm>
              <a:off x="528480" y="2301840"/>
              <a:ext cx="5529600" cy="1968480"/>
            </a:xfrm>
            <a:prstGeom prst="rect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28480" y="4219560"/>
              <a:ext cx="2955960" cy="322200"/>
            </a:xfrm>
            <a:prstGeom prst="rect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8480" y="1601640"/>
            <a:ext cx="5529600" cy="720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28480" y="4238640"/>
            <a:ext cx="5532480" cy="1312920"/>
            <a:chOff x="528480" y="4238640"/>
            <a:chExt cx="5532480" cy="1312920"/>
          </a:xfrm>
        </p:grpSpPr>
        <p:sp>
          <p:nvSpPr>
            <p:cNvPr id="99" name=""/>
            <p:cNvSpPr/>
            <p:nvPr/>
          </p:nvSpPr>
          <p:spPr>
            <a:xfrm>
              <a:off x="3459240" y="4238640"/>
              <a:ext cx="2601720" cy="322200"/>
            </a:xfrm>
            <a:prstGeom prst="rect">
              <a:avLst/>
            </a:prstGeom>
            <a:solidFill>
              <a:srgbClr val="66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8480" y="4541760"/>
              <a:ext cx="5529600" cy="1009800"/>
            </a:xfrm>
            <a:prstGeom prst="rect">
              <a:avLst/>
            </a:prstGeom>
            <a:solidFill>
              <a:srgbClr val="66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248520" y="1506600"/>
            <a:ext cx="235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Which methods of character development are being us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5754600" y="6035760"/>
            <a:ext cx="2551320" cy="822240"/>
          </a:xfrm>
          <a:custGeom>
            <a:avLst/>
            <a:gdLst>
              <a:gd name="textAreaLeft" fmla="*/ 53280 w 2551320"/>
              <a:gd name="textAreaRight" fmla="*/ 2498040 w 2551320"/>
              <a:gd name="textAreaTop" fmla="*/ 53280 h 822240"/>
              <a:gd name="textAreaBottom" fmla="*/ 768960 h 822240"/>
            </a:gdLst>
            <a:ahLst/>
            <a:rect l="textAreaLeft" t="textAreaTop" r="textAreaRight" b="textAreaBottom"/>
            <a:pathLst>
              <a:path w="67003" h="21600">
                <a:moveTo>
                  <a:pt x="0" y="0"/>
                </a:moveTo>
                <a:lnTo>
                  <a:pt x="67003" y="0"/>
                </a:lnTo>
                <a:lnTo>
                  <a:pt x="67003" y="21600"/>
                </a:lnTo>
                <a:lnTo>
                  <a:pt x="0" y="21600"/>
                </a:lnTo>
                <a:close/>
              </a:path>
              <a:path fill="lightenLess" w="67003" h="21600">
                <a:moveTo>
                  <a:pt x="0" y="0"/>
                </a:moveTo>
                <a:lnTo>
                  <a:pt x="67003" y="0"/>
                </a:lnTo>
                <a:lnTo>
                  <a:pt x="65603" y="1400"/>
                </a:lnTo>
                <a:lnTo>
                  <a:pt x="1400" y="1400"/>
                </a:lnTo>
                <a:close/>
              </a:path>
              <a:path fill="darken" w="67003" h="21600">
                <a:moveTo>
                  <a:pt x="67003" y="0"/>
                </a:moveTo>
                <a:lnTo>
                  <a:pt x="67003" y="21600"/>
                </a:lnTo>
                <a:lnTo>
                  <a:pt x="65603" y="20200"/>
                </a:lnTo>
                <a:lnTo>
                  <a:pt x="65603" y="1400"/>
                </a:lnTo>
                <a:close/>
              </a:path>
              <a:path fill="darkenLess" w="67003" h="21600">
                <a:moveTo>
                  <a:pt x="67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603" y="20200"/>
                </a:lnTo>
                <a:close/>
              </a:path>
              <a:path fill="lighten" w="67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600200"/>
            <a:ext cx="5524560" cy="39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Keep still, you little devil, or I’ll cut your throat!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 fearful man, all in coarse grey, with a great iron on his leg. A man with no hat, and with broken shoes, and with an old rag tied round his head. A man who had been soaked in water, and smothered in mud, and lamed by stones, and cut by flints . . . ; who limped, and shivered, and glared and growled; and whose teeth chattered in his head as he seized me by the ch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</a:t>
            </a:r>
            <a:r>
              <a:rPr b="0" i="1" lang="en-US" sz="1600" spc="-1" strike="noStrike">
                <a:solidFill>
                  <a:srgbClr val="003300"/>
                </a:solidFill>
                <a:latin typeface="Verdana"/>
              </a:rPr>
              <a:t>Great Expectations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 by Charles Dicke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232680" y="2925720"/>
            <a:ext cx="2377800" cy="16185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e’s dangerous and desperate. He seems to be an escaped prisoner on the ru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6210360" y="150336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What do you think of the man based on this excerpt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5640" y="5021280"/>
            <a:ext cx="797040" cy="4208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haracter Developmen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170000"/>
            <a:ext cx="2286000" cy="763560"/>
          </a:xfrm>
          <a:prstGeom prst="flowChartAlternateProcess">
            <a:avLst/>
          </a:prstGeom>
          <a:solidFill>
            <a:srgbClr val="33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1700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5754600" y="6035760"/>
            <a:ext cx="2551320" cy="822240"/>
          </a:xfrm>
          <a:custGeom>
            <a:avLst/>
            <a:gdLst>
              <a:gd name="textAreaLeft" fmla="*/ 53280 w 2551320"/>
              <a:gd name="textAreaRight" fmla="*/ 2498040 w 2551320"/>
              <a:gd name="textAreaTop" fmla="*/ 53280 h 822240"/>
              <a:gd name="textAreaBottom" fmla="*/ 768960 h 822240"/>
            </a:gdLst>
            <a:ahLst/>
            <a:rect l="textAreaLeft" t="textAreaTop" r="textAreaRight" b="textAreaBottom"/>
            <a:pathLst>
              <a:path w="67003" h="21600">
                <a:moveTo>
                  <a:pt x="0" y="0"/>
                </a:moveTo>
                <a:lnTo>
                  <a:pt x="67003" y="0"/>
                </a:lnTo>
                <a:lnTo>
                  <a:pt x="67003" y="21600"/>
                </a:lnTo>
                <a:lnTo>
                  <a:pt x="0" y="21600"/>
                </a:lnTo>
                <a:close/>
              </a:path>
              <a:path fill="lightenLess" w="67003" h="21600">
                <a:moveTo>
                  <a:pt x="0" y="0"/>
                </a:moveTo>
                <a:lnTo>
                  <a:pt x="67003" y="0"/>
                </a:lnTo>
                <a:lnTo>
                  <a:pt x="65603" y="1400"/>
                </a:lnTo>
                <a:lnTo>
                  <a:pt x="1400" y="1400"/>
                </a:lnTo>
                <a:close/>
              </a:path>
              <a:path fill="darken" w="67003" h="21600">
                <a:moveTo>
                  <a:pt x="67003" y="0"/>
                </a:moveTo>
                <a:lnTo>
                  <a:pt x="67003" y="21600"/>
                </a:lnTo>
                <a:lnTo>
                  <a:pt x="65603" y="20200"/>
                </a:lnTo>
                <a:lnTo>
                  <a:pt x="65603" y="1400"/>
                </a:lnTo>
                <a:close/>
              </a:path>
              <a:path fill="darkenLess" w="67003" h="21600">
                <a:moveTo>
                  <a:pt x="67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603" y="20200"/>
                </a:lnTo>
                <a:close/>
              </a:path>
              <a:path fill="lighten" w="67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600200"/>
            <a:ext cx="5524560" cy="3920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Keep still, you little devil, or I’ll cut your throat!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 fearful man, all in coarse grey, with a great iron on his leg. A man with no hat, and with broken shoes, and with an old rag tied round his head. A man who had been soaked in water, and smothered in mud, and lamed by stones, and cut by flints . . . ; who limped, and shivered, and glared and growled; and whose teeth chattered in his head as he seized me by the ch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</a:t>
            </a:r>
            <a:r>
              <a:rPr b="0" i="1" lang="en-US" sz="1600" spc="-1" strike="noStrike">
                <a:solidFill>
                  <a:srgbClr val="003300"/>
                </a:solidFill>
                <a:latin typeface="Verdana"/>
              </a:rPr>
              <a:t>Great Expectations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 by Charles Dicke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75026.JPG"/>
          <p:cNvPicPr/>
          <p:nvPr/>
        </p:nvPicPr>
        <p:blipFill>
          <a:blip r:embed="rId2"/>
          <a:srcRect l="15551" t="0" r="0" b="0"/>
          <a:stretch/>
        </p:blipFill>
        <p:spPr>
          <a:xfrm>
            <a:off x="6058080" y="2560680"/>
            <a:ext cx="2552400" cy="2208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First-person narrator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reveal their personal traits as th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18924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ell us what they think and fe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40924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Be aware that some first-person narrators mislead or lie to the audie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279520"/>
            <a:ext cx="541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ell their own stories (using pronouns like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I, me,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nd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 w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3683160" y="5522760"/>
            <a:ext cx="2577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Verdana"/>
                <a:hlinkClick r:id="rId3" action="ppaction://hlinksldjump"/>
              </a:rPr>
              <a:t>Soliloqu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409680" y="5522760"/>
            <a:ext cx="2577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Verdana"/>
                <a:hlinkClick r:id="rId4" action="ppaction://hlinksldjump"/>
              </a:rPr>
              <a:t>Dramatic Monolog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2787480" y="194472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5680080" y="286056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1784520" y="375444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Speech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6032520"/>
            <a:ext cx="673200" cy="825480"/>
          </a:xfrm>
          <a:custGeom>
            <a:avLst/>
            <a:gdLst>
              <a:gd name="textAreaLeft" fmla="*/ 43560 w 673200"/>
              <a:gd name="textAreaRight" fmla="*/ 629640 w 673200"/>
              <a:gd name="textAreaTop" fmla="*/ 43560 h 825480"/>
              <a:gd name="textAreaBottom" fmla="*/ 781920 h 825480"/>
            </a:gdLst>
            <a:ahLst/>
            <a:rect l="textAreaLeft" t="textAreaTop" r="textAreaRight" b="textAreaBottom"/>
            <a:pathLst>
              <a:path w="21600" h="26483">
                <a:moveTo>
                  <a:pt x="0" y="0"/>
                </a:moveTo>
                <a:lnTo>
                  <a:pt x="21600" y="0"/>
                </a:lnTo>
                <a:lnTo>
                  <a:pt x="21600" y="26483"/>
                </a:lnTo>
                <a:lnTo>
                  <a:pt x="0" y="26483"/>
                </a:lnTo>
                <a:close/>
              </a:path>
              <a:path fill="lightenLess" w="21600" h="264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83">
                <a:moveTo>
                  <a:pt x="21600" y="0"/>
                </a:moveTo>
                <a:lnTo>
                  <a:pt x="21600" y="26483"/>
                </a:lnTo>
                <a:lnTo>
                  <a:pt x="20200" y="25083"/>
                </a:lnTo>
                <a:lnTo>
                  <a:pt x="20200" y="1400"/>
                </a:lnTo>
                <a:close/>
              </a:path>
              <a:path fill="darkenLess" w="21600" h="26483">
                <a:moveTo>
                  <a:pt x="21600" y="26483"/>
                </a:moveTo>
                <a:lnTo>
                  <a:pt x="0" y="26483"/>
                </a:lnTo>
                <a:lnTo>
                  <a:pt x="1400" y="25083"/>
                </a:lnTo>
                <a:lnTo>
                  <a:pt x="20200" y="25083"/>
                </a:lnTo>
                <a:close/>
              </a:path>
              <a:path fill="lighten" w="21600" h="26483">
                <a:moveTo>
                  <a:pt x="0" y="264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8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3520" y="264636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characters say and don’t s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Dialogu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can reveal a lot about characters and their relationships with each other. Pay attention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3562200"/>
            <a:ext cx="53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how characters respond to each 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098720" y="22924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746360" y="321624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553080" y="560232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Speech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019920" y="2209680"/>
            <a:ext cx="2446200" cy="335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137016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Pay attention to language the writer uses to describe the characters’ looks, clothes, and demeanor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41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Does the description give you a positive or negative impression of the character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553080" y="560232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419200" y="229248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115040" y="470052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Appearanc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530280" y="5070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ich words contribute to this impress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8477280" y="394164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23800" y="2643120"/>
            <a:ext cx="778212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cold within him froze his old features, nipped his pointed nose, shriveled his cheek, stiffened his gait; made his eyes red, his thin lips blue. . .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</a:t>
            </a:r>
            <a:r>
              <a:rPr b="0" i="1" lang="en-US" sz="1600" spc="-1" strike="noStrike">
                <a:solidFill>
                  <a:srgbClr val="003300"/>
                </a:solidFill>
                <a:latin typeface="Verdana"/>
              </a:rPr>
              <a:t>A Christmas Carol 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by Charles Dickens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655560" y="3381480"/>
            <a:ext cx="914400" cy="144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440080" y="3384720"/>
            <a:ext cx="1104840" cy="144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052960" y="3384720"/>
            <a:ext cx="1104840" cy="144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095880" y="3045960"/>
            <a:ext cx="800280" cy="180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784600" y="3722760"/>
            <a:ext cx="482400" cy="144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7870680" y="5295960"/>
            <a:ext cx="13356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1:09Z</dcterms:created>
  <dc:creator>Amber </dc:creator>
  <dc:description/>
  <dc:language>en-US</dc:language>
  <cp:lastModifiedBy>stevenh</cp:lastModifiedBy>
  <cp:lastPrinted>2004-11-19T20:17:12Z</cp:lastPrinted>
  <dcterms:modified xsi:type="dcterms:W3CDTF">2005-11-21T20:57:07Z</dcterms:modified>
  <cp:revision>150</cp:revision>
  <dc:subject/>
  <dc:title>Elements of Literature: Character</dc:title>
</cp:coreProperties>
</file>